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915C0-EB00-4BCC-AA9D-9C891CDF3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749E0-1C4A-4279-9C43-630C90DFD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3DD4E-7F1A-4B9E-99EA-6961EAB60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D1EF5-DB95-4342-A8E2-466CBC4FB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81B34F7-F5E9-4BE9-A9DB-59654138E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D68ED4-F362-4426-AF4F-E1C3621F4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E10897-B57F-4F00-AAFD-6388978C2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9FF619-1D31-4241-A525-B3BA2E4A5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081ED8-9F15-4A15-91D2-99D9A1BE4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45CC9B-4664-410D-AF1E-EED70F6AE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797C2E-6545-4ECF-94AA-42596AEAE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257C1-EA50-4591-9122-BC6E4EA92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7B7F95-5DBB-4976-AEEE-471CC05B8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EB2207-A92E-4DB8-97A2-F606ADF5A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B3ED06-5C2A-41D3-B62A-355362878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8844A1-7C96-442E-BA90-91D91A62F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8BC6C80-A1D3-45FA-96A4-BCAE29A14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7B0B32-9248-412B-A608-0E47B6D11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61BBE-CD61-4B7A-B37B-9421285E2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6677D-13CF-4A96-B6E2-895FCBFDC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149EE-4060-4F9C-A735-93F0BFDEE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D410B-39F1-48EE-807B-3EBE95D6A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3AE37-5FAF-4BBF-9029-D683D3AAD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19385-169C-4934-9936-1D84F12CE8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6BD18-6D2B-42DB-90BE-7EBB2B0E1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A17DF-F866-4EA4-9FBE-06AA896E8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9FFB4-FAAD-43BF-94B1-0DE7BF1C5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0B04A-31EB-4F65-B34E-8E09280DB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4A80A-9352-4B3B-A56C-259FDCD9C6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159016-08BD-4F9A-8982-960F0850B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C006BFD-BC1E-4C1C-8847-71CC76C6C36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5FC66A2-BCA1-4DF9-8804-1F0DEFCEE3A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3E403F3-8E33-45EB-A206-0F55944828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6F966-51B2-4D23-9D21-B291FFADF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F4D4BC9-BA7B-4033-859B-BF4FE690024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55438DF-7BA3-4ED7-A13E-8856B373DA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6F4D583-268C-4281-B1A1-37A36A1BBFD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F514044-0268-4F81-97C3-9798330473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7FB0462-9E37-41CB-97DA-9048B6FB22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85B58B4-82ED-4C2F-ACAC-0902975788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1162B5C-8DFF-40B1-86B5-8B85E51979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28425DA-D28D-4E14-A471-C433377F60C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3D704AD-D74A-49DE-8EF6-351AE6A9195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D1A04C-91F1-4763-AF60-33B1859B60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68FCF-19DB-450C-8810-CA836908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BF06EE-1A31-4095-957A-FE7FE15D8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911703-3441-4523-A169-31374361D1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BABA6E-164F-472B-B8AC-59C4E0282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09D00E-27E1-4FD3-8A0B-F902B2958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1692FD8-8736-4FE1-A69D-8258CDF495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DD8F17-A319-40DB-8BD1-2B7DB8409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8EF6BC-0F4F-4FA8-9638-233DBE44E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2E73E6-A560-48DD-98DC-DE0C13212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6395DD-0DD9-4A5C-9706-29F27939D4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64589D0-D620-478F-B873-B58FBA553B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6CC58-BA74-4E66-96E3-BD48D028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1FD6DD3-7363-479E-95CD-EF7A38FE41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73248F5-D66F-41D5-8147-BA7B6D1958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D23A2E-7CD1-42AC-9511-134D1A74DE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862310-2D2F-4118-B616-CFC31FC746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3A69C9D-DB3C-47E6-A191-E98EB44566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CFE7AB0-F5C0-40B4-BA21-B6F86968AC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C75E09-3342-4ACB-9E6B-FD1D3FA129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70B298-6FDC-4833-9A1E-C76EB8ACD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808ABF-3E67-4878-B69B-72CA71544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2514A6-7E9C-44CF-B0E4-02C3DC61E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805C4-8459-4C54-BD83-3552C553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8F4BE8-FDBE-49A8-AE1D-1C7D524F4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791E233-A3C2-4332-BC7E-224B607202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CE89903-2D66-44D3-9271-E02B61BE13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6C341-2477-45CC-8EAD-65AB51D30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0010-146D-4208-A94E-1AADE58CF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74A3-2F37-4A15-93FC-F9C18D0FD36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2581-BC97-4435-B2CF-6F7F257E0C8C}"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734B-1F72-48AC-B5CD-E9DAB537559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492B-2ED0-4DC3-9602-2DC90A44C3E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4E60-DA51-4405-90BD-77C93BC1666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3B54-7561-4F6E-8EF8-AC0029C3A1C1}"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Chapter 4</a:t>
            </a:r>
            <a:endParaRPr b="0" lang="en-US" sz="2200" spc="-1" strike="noStrike">
              <a:solidFill>
                <a:srgbClr val="ffffff"/>
              </a:solidFill>
              <a:latin typeface="Constantia"/>
            </a:endParaRPr>
          </a:p>
        </p:txBody>
      </p:sp>
      <p:pic>
        <p:nvPicPr>
          <p:cNvPr id="253" name="Title 1" descr=""/>
          <p:cNvPicPr/>
          <p:nvPr/>
        </p:nvPicPr>
        <p:blipFill>
          <a:blip r:embed="rId2"/>
          <a:stretch/>
        </p:blipFill>
        <p:spPr>
          <a:xfrm>
            <a:off x="317520" y="1427040"/>
            <a:ext cx="858204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term “cultural minority” refers to various non-White cultural groups. However, based solely on numbers, this term is already obsolete and/or a misnomer in many urban areas. For example, Hispanics, African Americans, and Asians- when combined- now make up the majority of the population in almost half of the 100 largest U.S. cities.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Children of color” make up 90% of the new enrollment in Detroit, DC, Chicago, Houston, and Los Angeles. </a:t>
            </a:r>
            <a:endParaRPr b="0" lang="en-US" sz="2600" spc="-1" strike="noStrike">
              <a:solidFill>
                <a:srgbClr val="ffffff"/>
              </a:solidFill>
              <a:latin typeface="Constantia"/>
            </a:endParaRPr>
          </a:p>
        </p:txBody>
      </p:sp>
      <p:pic>
        <p:nvPicPr>
          <p:cNvPr id="272"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0% of all students will speak a language other than English. </a:t>
            </a:r>
            <a:endParaRPr b="0" lang="en-US" sz="26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erms for these students:</a:t>
            </a:r>
            <a:endParaRPr b="0" lang="en-US" sz="2600" spc="-1" strike="noStrike">
              <a:solidFill>
                <a:srgbClr val="ffffff"/>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LL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SL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SOL</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LEP students</a:t>
            </a:r>
            <a:endParaRPr b="0" lang="en-US" sz="2400" spc="-1" strike="noStrike">
              <a:solidFill>
                <a:srgbClr val="fefac9"/>
              </a:solidFill>
              <a:latin typeface="Constantia"/>
            </a:endParaRPr>
          </a:p>
          <a:p>
            <a:pPr lvl="1" marL="620280" indent="-26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CLB (No Child Left Behind) legislature requires states to document educational progress of these students. </a:t>
            </a:r>
            <a:endParaRPr b="0" lang="en-US" sz="2400" spc="-1" strike="noStrike">
              <a:solidFill>
                <a:srgbClr val="fefac9"/>
              </a:solidFill>
              <a:latin typeface="Constantia"/>
            </a:endParaRPr>
          </a:p>
          <a:p>
            <a:pPr lvl="1" marL="620280" indent="-26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20280" indent="-26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ICS  versus CALP</a:t>
            </a:r>
            <a:endParaRPr b="0" lang="en-US" sz="2400" spc="-1" strike="noStrike">
              <a:solidFill>
                <a:srgbClr val="fefac9"/>
              </a:solidFill>
              <a:latin typeface="Constantia"/>
            </a:endParaRPr>
          </a:p>
        </p:txBody>
      </p:sp>
      <p:pic>
        <p:nvPicPr>
          <p:cNvPr id="274"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a school approaches teaching ELL students largely depends on the ELL population they serve. </a:t>
            </a: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ilingual maintenance language programs </a:t>
            </a: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mmersion / ESL pullout programs</a:t>
            </a: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ransition programs</a:t>
            </a: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te that there are stages to second language acquisition and students will not all be at the same stage or level. Various instructional strategies should be used depending on the stage of the student’s acquisition. </a:t>
            </a:r>
            <a:endParaRPr b="0" lang="en-US" sz="2600" spc="-1" strike="noStrike">
              <a:solidFill>
                <a:srgbClr val="ffffff"/>
              </a:solidFill>
              <a:latin typeface="Constantia"/>
            </a:endParaRPr>
          </a:p>
        </p:txBody>
      </p:sp>
      <p:pic>
        <p:nvPicPr>
          <p:cNvPr id="276"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Your turn to talk for a minute. With an “elbow buddy”, discuss stereotypical differences between boys and girls.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78" name="Title 2" descr=""/>
          <p:cNvPicPr/>
          <p:nvPr/>
        </p:nvPicPr>
        <p:blipFill>
          <a:blip r:embed="rId2"/>
          <a:stretch/>
        </p:blipFill>
        <p:spPr>
          <a:xfrm>
            <a:off x="219240" y="146160"/>
            <a:ext cx="8474040" cy="1231920"/>
          </a:xfrm>
          <a:prstGeom prst="rect">
            <a:avLst/>
          </a:prstGeom>
          <a:ln w="0">
            <a:noFill/>
          </a:ln>
        </p:spPr>
      </p:pic>
      <p:graphicFrame>
        <p:nvGraphicFramePr>
          <p:cNvPr id="279" name=""/>
          <p:cNvGraphicFramePr/>
          <p:nvPr/>
        </p:nvGraphicFramePr>
        <p:xfrm>
          <a:off x="1371600" y="3048120"/>
          <a:ext cx="6095880" cy="2595600"/>
        </p:xfrm>
        <a:graphic>
          <a:graphicData uri="http://schemas.openxmlformats.org/drawingml/2006/table">
            <a:tbl>
              <a:tblPr/>
              <a:tblGrid>
                <a:gridCol w="3048120"/>
                <a:gridCol w="3047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OYS</a:t>
                      </a: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GIRLS</a:t>
                      </a: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ender bias: discrimination based on gender that limits the growth possibilities of either boys or girls.</a:t>
            </a:r>
            <a:endParaRPr b="0" lang="en-US" sz="2600" spc="-1" strike="noStrike">
              <a:solidFill>
                <a:srgbClr val="ffffff"/>
              </a:solidFill>
              <a:latin typeface="Constantia"/>
            </a:endParaRPr>
          </a:p>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ender-role identity: differences in expectations and beliefs about appropriate roles and behaviors of the two sexes.  </a:t>
            </a:r>
            <a:endParaRPr b="0" lang="en-US" sz="2600" spc="-1" strike="noStrike">
              <a:solidFill>
                <a:srgbClr val="ffffff"/>
              </a:solidFill>
              <a:latin typeface="Constantia"/>
            </a:endParaRPr>
          </a:p>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th and science scores – higher for boys than girls</a:t>
            </a:r>
            <a:endParaRPr b="0" lang="en-US" sz="2600" spc="-1" strike="noStrike">
              <a:solidFill>
                <a:srgbClr val="ffffff"/>
              </a:solidFill>
              <a:latin typeface="Constantia"/>
            </a:endParaRPr>
          </a:p>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ever, more boys are retained than girls; more boys are diagnosed with learning disabilities; boys drop out of school 4 times more often than girls; boys are cited for discipline problems 10 times more often than girls. </a:t>
            </a:r>
            <a:endParaRPr b="0" lang="en-US" sz="2600" spc="-1" strike="noStrike">
              <a:solidFill>
                <a:srgbClr val="ffffff"/>
              </a:solidFill>
              <a:latin typeface="Constantia"/>
            </a:endParaRPr>
          </a:p>
        </p:txBody>
      </p:sp>
      <p:sp>
        <p:nvSpPr>
          <p:cNvPr id="2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creasing number of them in US; ironically, England (which has a long history of single-sex classrooms) is moving away from them.</a:t>
            </a:r>
            <a:endParaRPr b="0" lang="en-US" sz="26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nefits:</a:t>
            </a:r>
            <a:endParaRPr b="0" lang="en-US" sz="2600" spc="-1" strike="noStrike">
              <a:solidFill>
                <a:srgbClr val="ffffff"/>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oys don’t have to put on a big show for the ladies.</a:t>
            </a:r>
            <a:endParaRPr b="0" lang="en-US" sz="2400" spc="-1" strike="noStrike">
              <a:solidFill>
                <a:srgbClr val="fefac9"/>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irls don’t have to “dumb down” their academic abilities.</a:t>
            </a:r>
            <a:endParaRPr b="0" lang="en-US" sz="2400" spc="-1" strike="noStrike">
              <a:solidFill>
                <a:srgbClr val="fefac9"/>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irls are more likely to assume leadership roles.</a:t>
            </a:r>
            <a:endParaRPr b="0" lang="en-US" sz="2400" spc="-1" strike="noStrike">
              <a:solidFill>
                <a:srgbClr val="fefac9"/>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irls demonstrate higher self esteem and have firmer beliefs that they’re in control of their destinies. </a:t>
            </a:r>
            <a:endParaRPr b="0" lang="en-US" sz="2400" spc="-1" strike="noStrike">
              <a:solidFill>
                <a:srgbClr val="fefac9"/>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oys demonstrate more character development. </a:t>
            </a:r>
            <a:endParaRPr b="0" lang="en-US" sz="2400" spc="-1" strike="noStrike">
              <a:solidFill>
                <a:srgbClr val="fefac9"/>
              </a:solidFill>
              <a:latin typeface="Constantia"/>
            </a:endParaRPr>
          </a:p>
        </p:txBody>
      </p:sp>
      <p:pic>
        <p:nvPicPr>
          <p:cNvPr id="283"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0ns: </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xacerbate stereotypical views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Fail to prepare students for the “real worl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ossible legality issues because of Title IX</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sp>
        <p:nvSpPr>
          <p:cNvPr id="2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municate openly with students about gender issues and concerns. Work purposefully to treat both genders equall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ncourage equal participati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ke an effort to present men and women in non-stereotypical roles (women engineers; men teach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ncourage girls to pursue science/ math related fields; encourage boys to pursue nurse / teaching.</a:t>
            </a:r>
            <a:endParaRPr b="0" lang="en-US" sz="2600" spc="-1" strike="noStrike">
              <a:solidFill>
                <a:srgbClr val="ffffff"/>
              </a:solidFill>
              <a:latin typeface="Constantia"/>
            </a:endParaRPr>
          </a:p>
        </p:txBody>
      </p:sp>
      <p:pic>
        <p:nvPicPr>
          <p:cNvPr id="287"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ulture: the knowledge, attitudes, values, customs, and behavior patterns that characterize a social group.</a:t>
            </a:r>
            <a:endParaRPr b="0" lang="en-US" sz="2600" spc="-1" strike="noStrike">
              <a:solidFill>
                <a:srgbClr val="ffffff"/>
              </a:solidFill>
              <a:latin typeface="Constantia"/>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urface culture vs Deep cultur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55"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Content Placeholder 3" descr="iceberg2Culture.gif"/>
          <p:cNvPicPr/>
          <p:nvPr/>
        </p:nvPicPr>
        <p:blipFill>
          <a:blip r:embed="rId2"/>
          <a:stretch/>
        </p:blipFill>
        <p:spPr>
          <a:xfrm>
            <a:off x="66600" y="304920"/>
            <a:ext cx="9077400" cy="624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ultural diversity: the different cultures you’ll encounter in your classroom and the differences that will influence learning.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thnicity: a person’s ancestry– the way people identify themselves with the nation they or their ancestors came from</a:t>
            </a:r>
            <a:endParaRPr b="0" lang="en-US" sz="2600" spc="-1" strike="noStrike">
              <a:solidFill>
                <a:srgbClr val="ffffff"/>
              </a:solidFill>
              <a:latin typeface="Constantia"/>
            </a:endParaRPr>
          </a:p>
        </p:txBody>
      </p:sp>
      <p:sp>
        <p:nvSpPr>
          <p:cNvPr id="2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arly 1900’s, most immigrants came from Europe. Now, 40% come from Central America; 25% come from Asia; 14% come from Europe, and 10% come from the Caribbean. </a:t>
            </a:r>
            <a:endParaRPr b="0" lang="en-US" sz="24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Rodriguez” and “Garcia” have now replaced “Moore” and “Taylor” on the top 10 most common last names in the U.S.</a:t>
            </a:r>
            <a:endParaRPr b="0" lang="en-US" sz="24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urrently, 4 out of 10 students are “of color” with Hispanics and African Americans at the top.  60% of students are White.</a:t>
            </a:r>
            <a:endParaRPr b="0" lang="en-US" sz="24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y 2050, no single group will be a majority among adults. </a:t>
            </a:r>
            <a:endParaRPr b="0" lang="en-US" sz="24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ach culture has a set of values and attitudes that are common among the people who share this culture.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et’s discuss some of the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ian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ispanic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ative American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dian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alue of education, language, gender roles, interaction patterns, etc.)</a:t>
            </a:r>
            <a:endParaRPr b="0" lang="en-US" sz="2600" spc="-1" strike="noStrike">
              <a:solidFill>
                <a:srgbClr val="ffffff"/>
              </a:solidFill>
              <a:latin typeface="Constantia"/>
            </a:endParaRPr>
          </a:p>
        </p:txBody>
      </p:sp>
      <p:pic>
        <p:nvPicPr>
          <p:cNvPr id="262"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similation: A process of socializing people so that they adopt dominate social norms and patterns of behavior. (Melting Po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cculturation: Maintaining your own culture and traditions while adding to the dominate culture around you. (Tossed Salad)</a:t>
            </a:r>
            <a:endParaRPr b="0" lang="en-US" sz="2600" spc="-1" strike="noStrike">
              <a:solidFill>
                <a:srgbClr val="ffffff"/>
              </a:solidFill>
              <a:latin typeface="Constantia"/>
            </a:endParaRPr>
          </a:p>
        </p:txBody>
      </p:sp>
      <p:pic>
        <p:nvPicPr>
          <p:cNvPr id="264" name="Title 2" descr=""/>
          <p:cNvPicPr/>
          <p:nvPr/>
        </p:nvPicPr>
        <p:blipFill>
          <a:blip r:embed="rId2"/>
          <a:stretch/>
        </p:blipFill>
        <p:spPr>
          <a:xfrm>
            <a:off x="219240" y="146160"/>
            <a:ext cx="8474040" cy="1231920"/>
          </a:xfrm>
          <a:prstGeom prst="rect">
            <a:avLst/>
          </a:prstGeom>
          <a:ln w="0">
            <a:noFill/>
          </a:ln>
        </p:spPr>
      </p:pic>
      <p:pic>
        <p:nvPicPr>
          <p:cNvPr id="265" name="Picture 2" descr="C:\Users\Amy\AppData\Local\Microsoft\Windows\Temporary Internet Files\Content.IE5\MK6084OW\MC900237878[1].wmf"/>
          <p:cNvPicPr/>
          <p:nvPr/>
        </p:nvPicPr>
        <p:blipFill>
          <a:blip r:embed="rId3"/>
          <a:stretch/>
        </p:blipFill>
        <p:spPr>
          <a:xfrm>
            <a:off x="5867280" y="4343400"/>
            <a:ext cx="2368800" cy="2028960"/>
          </a:xfrm>
          <a:prstGeom prst="rect">
            <a:avLst/>
          </a:prstGeom>
          <a:ln w="0">
            <a:noFill/>
          </a:ln>
        </p:spPr>
      </p:pic>
      <p:pic>
        <p:nvPicPr>
          <p:cNvPr id="266" name="Picture 3" descr="C:\Users\Amy\AppData\Local\Microsoft\Windows\Temporary Internet Files\Content.IE5\6NBMUBEP\MC900389380[1].wmf"/>
          <p:cNvPicPr/>
          <p:nvPr/>
        </p:nvPicPr>
        <p:blipFill>
          <a:blip r:embed="rId4"/>
          <a:stretch/>
        </p:blipFill>
        <p:spPr>
          <a:xfrm>
            <a:off x="1981080" y="4511520"/>
            <a:ext cx="1600200" cy="168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 controversial approach that describes the various strategies schools use to accommodate cultural differences in teaching and learning. </a:t>
            </a: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ponents assert that building on students’ cultures is nothing more than sound teaching (schema/ background knowledge); continues tradition of acknowledging diversity this country was founded with.</a:t>
            </a: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itics  contend that it is divisive because it emphasizes differences instead of similarities; textbook scrutiny because multicultural themes are emphasized over some basic content; national anthem controversy—(p. 107)</a:t>
            </a:r>
            <a:endParaRPr b="0" lang="en-US" sz="2400" spc="-1" strike="noStrike">
              <a:solidFill>
                <a:srgbClr val="ffffff"/>
              </a:solidFill>
              <a:latin typeface="Constantia"/>
            </a:endParaRPr>
          </a:p>
        </p:txBody>
      </p:sp>
      <p:pic>
        <p:nvPicPr>
          <p:cNvPr id="268"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ulturally responsive teaching- instruction that acknowledges and accommodates cultural diversity</a:t>
            </a:r>
            <a:endParaRPr b="0" lang="en-US" sz="2600" spc="-1" strike="noStrike">
              <a:solidFill>
                <a:srgbClr val="ffffff"/>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one in three main ways:</a:t>
            </a:r>
            <a:endParaRPr b="0" lang="en-US" sz="2400" spc="-1" strike="noStrike">
              <a:solidFill>
                <a:srgbClr val="fefac9"/>
              </a:solidFill>
              <a:latin typeface="Constantia"/>
            </a:endParaRPr>
          </a:p>
          <a:p>
            <a:pPr lvl="3" marL="1240920" indent="-22140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ccepts and values cultural differences : (show genuine interest, make students feel important and valued; involve ALL students in learning)</a:t>
            </a:r>
            <a:endParaRPr b="0" lang="en-US" sz="1900" spc="-1" strike="noStrike">
              <a:solidFill>
                <a:srgbClr val="ffffff"/>
              </a:solidFill>
              <a:latin typeface="Constantia"/>
            </a:endParaRPr>
          </a:p>
          <a:p>
            <a:pPr lvl="3" marL="1240920" indent="-22140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ccommodating different patterns of cultural interaction: (learn about and respect differences in cultural interactions; help students learn a “culture of schooling” while honoring and valuing home culture)</a:t>
            </a:r>
            <a:endParaRPr b="0" lang="en-US" sz="1900" spc="-1" strike="noStrike">
              <a:solidFill>
                <a:srgbClr val="ffffff"/>
              </a:solidFill>
              <a:latin typeface="Constantia"/>
            </a:endParaRPr>
          </a:p>
          <a:p>
            <a:pPr lvl="3" marL="1240920" indent="-22140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Building on students’ cultural backgrounds : (this is basic to all effective teaching– build on what students already know!)</a:t>
            </a:r>
            <a:endParaRPr b="0" lang="en-US" sz="1900" spc="-1" strike="noStrike">
              <a:solidFill>
                <a:srgbClr val="ffffff"/>
              </a:solidFill>
              <a:latin typeface="Constantia"/>
            </a:endParaRPr>
          </a:p>
        </p:txBody>
      </p:sp>
      <p:pic>
        <p:nvPicPr>
          <p:cNvPr id="27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17:48:08Z</dcterms:created>
  <dc:creator>Amy B Bowden</dc:creator>
  <dc:description/>
  <dc:language>en-US</dc:language>
  <cp:lastModifiedBy>FUNTIMES</cp:lastModifiedBy>
  <dcterms:modified xsi:type="dcterms:W3CDTF">2011-10-26T21:07:17Z</dcterms:modified>
  <cp:revision>2</cp:revision>
  <dc:subject/>
  <dc:title>Student Diversity:  Culture, Language, and Gender</dc:title>
</cp:coreProperties>
</file>